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A37-3B41-4CED-8F1D-C6DAFB7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A24-1D95-455A-9BE9-9C3F130B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92EEF-D716-47A3-881D-7084B5CB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BCD95-5D7D-4C80-A21E-1186D397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DB55D-FA48-4285-823B-30171833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DC236-7F3B-4239-A476-00F1865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CF6B8-A3FA-4125-9268-9351010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F211-3245-49BA-9AE5-D2FD168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5450-FF83-44C9-9B49-046CD59A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E371B-F87E-47AE-A5BB-840F4E2C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BF171-D4B9-4CE5-B8B1-0D6780C1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A4D-1112-471A-B38A-63803DA0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73F-FAA1-4AE1-BF9F-7670D7E7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220-56CE-4F49-99BE-55509564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15DF-9204-435D-B262-6A7DB2E7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D95-61D3-4008-BC9D-1977ECF8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08D3-578A-441E-9D25-E3195394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2866-45BE-49A5-97E8-6AF5315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B75A-AEA1-47DB-8B77-EF5D12B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1BAF-D1B3-4CEC-8222-10992F8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788-56FF-47B9-97CD-FF0B47C0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62A3-3AF5-4E4F-BED9-D93B97B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4C57-1861-4AFC-8288-2B7E37C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AAB1-0E98-4291-9ACD-DF84A3BA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F2DC-CA4B-4A02-8B30-38657523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65DF-7709-4D2F-9F2F-3450987F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6DFE-0B50-4C23-B879-A9841781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297D-9699-4D87-9AE6-F72B9155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8368-4182-4A03-A55A-E8C92F53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B8A8-B313-40D8-A762-DADA900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DECD-72F0-4FB1-908F-F811C07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64E-1AC0-49CB-9BB6-1BF996DA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09D1-3B8A-49C9-8230-F0838F12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0819-328C-4E35-8C36-1D7A1BAF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FF0C-1AFB-414B-A925-932C0AA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4639-668D-4F04-A383-5CDB780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487F-6F42-43F7-AEB4-D362E144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17B5-76FE-490F-9065-548E0B0C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9F69-5B10-43CE-B71B-22191C81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D905-B67E-4D3B-90FA-247AEE59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2BC4-8871-44F2-AD2E-0AF59889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9CAB-6C17-4DD0-9B60-64CF0E46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071-EE03-492C-B05C-945DF93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EB46-D31C-4766-94AC-F3C7A29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FD38-515D-4FA5-B71A-05DADE6C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BDF2-3FCC-4328-ABF9-0E69A4F9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B5F5-F888-48FC-BFE4-FBECFFF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E72C-4F7F-4278-9E4F-4FD0BB4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D300-1127-403D-AB57-9D53059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3596-9BAB-4140-888D-8E3494ED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D36F-4A99-4554-B516-B9CD2774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5713A-226D-4E5F-A072-57377E84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DB09-D792-4479-BF10-B3F7ED99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5D7-D1CD-4E56-8F22-41147814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4736-33E7-464E-8912-13E8B9F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0856-030E-414A-8853-C049BCB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2DC2-8F3C-4F62-BF64-2D7BD55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5768-3D8E-4D2B-8051-3CDB95FE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89DF-F458-4D35-BE22-E0B4FD5E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1B9A-02E3-4312-84A3-B53F96C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EC17-E0E9-44CB-B25B-B8CE672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C4E33-0B29-4A5C-A629-B0704E2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E934-9412-477E-B487-DB727404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31CD-48C0-4F5E-B721-B2E0DF5A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C76-8CD9-4B95-90B9-62896A80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D33A-34AA-45E0-B13B-3E621A0F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8E1E5-DE91-4DCD-964E-0A8EBE7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D36C-FD8E-4143-94AC-D6E65E6D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00191-66FC-4439-A44D-4834FA6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FCB96-544D-496B-9DE8-493C3636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3729E-B3E0-473F-9B97-F5074F2F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FBB2-C045-488B-8F39-EC6D9E72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4270-3079-4CB3-B731-A472188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57F24-FA0E-48BC-A01C-F36E738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CEFF-11CF-4FFF-8F7F-33B7AC6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357-A9DC-44DF-9950-A0A0BCB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3BFC5-E074-4348-85DB-1CC605BA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D2A9-45E3-41C5-BC62-BC1C641B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6C68A-E371-46FA-9BC5-9A4647B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A584-6BAC-498D-AB74-E4FA27C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1CAE-E8B1-46D9-9FC5-7814FF9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EE0C2-449C-4F0C-A0F2-82EB89C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4F2E-B20F-458E-8E0E-1FC0DF46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783BF-A1FE-4698-ADBB-78E11D5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F6ED-EE87-47DC-B019-D83EEBF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17275-499C-49FE-81F5-2D0AC70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ADB-2101-4026-A28C-4A09EAD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6950-359D-4CE4-AD4E-952029C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EE6A-7BCC-429C-904A-BCCF28D0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ABF8-9495-4E9D-B964-63A21EC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47266-6B2A-497C-80C7-EF37DDD2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6FDC-61BF-4F7B-8FCF-B97D14EB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801C-8BE6-4819-AD2C-20F4C0CE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1577-4130-4881-9B29-B4D6A20C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9AA1-862C-4195-9776-7D60B65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59765-839A-4674-9CF6-A89E982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92901-A030-4092-B4A6-C490EA8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61D-4974-4979-A359-30574E1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FC523-EA95-495B-9DC6-4DB40581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76F0B-3B71-4159-9D1C-90E0B63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1C7F-3251-44A5-B100-D46BE2D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900B-BC18-4E35-B39C-4899758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622C4-0CCE-4FAA-89B6-F454DE9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F4482-C0F2-427A-BECA-42022B9E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BF30-C9F3-4DC7-9D9F-6C467AA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B32B2-0A24-48EA-A6C2-A5A4509D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470E1-B195-4EDE-9513-A8F6041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EAA7D-D13D-488D-B8C1-BFC10EA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B40-56A0-4A3C-9FD6-1770FFDF49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129-73BC-4433-AC8A-BD93E9132F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B2B5-56CA-417E-8616-E4FD597E7E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3828-52A5-43DC-9AB0-F5CF69594E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7D85-57C4-42F9-9251-A6F70937D99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A192-1170-4AE5-9043-DEB0A18A96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FD7-D921-485F-B9CB-B2015DDF02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706E-B1E1-461C-95E0-3D5B5B60C1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E69-C7F3-462E-B9F3-16C8E2113D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914400"/>
            <a:ext cx="87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جمع آوری داده 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یابی و شئونات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 گزین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" y="685800"/>
            <a:ext cx="8610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برخی پروژه های تحقیق،تمرکز جمع آوری داده ها بر اسناد گوناگون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مبنای کتابخ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مبنای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کانون خط مش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جهت گیری تاریخ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2"/>
          <p:cNvSpPr txBox="1"/>
          <p:nvPr/>
        </p:nvSpPr>
        <p:spPr>
          <a:xfrm>
            <a:off x="5638680" y="533520"/>
            <a:ext cx="268128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نوشتتن چکید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80880" y="190512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80880" y="2057400"/>
            <a:ext cx="784872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چکیده نباید بیش از بیست واژه باش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خلاصه ای از موضوع ، متن ، روش و نتایج کتاب یا مقاله و بیش از نیم ساعت نباید برای آن وقت صرف کرد.</a:t>
            </a:r>
            <a:r>
              <a:rPr b="0" lang="fa-I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2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3048120" y="6858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راحل ارزیاب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2819520" y="21337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سائل عمومی این مرحله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3520" y="342108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 در چه زمانی به دست طرف مقابل می رس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وظایف استاد راهنما ، ارزیاب ، سرپرست ، مشاور و... چیس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5800" y="1600200"/>
            <a:ext cx="7086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چه رویدادهای ویژه ای با مراحل ارزیابی مرتبط اند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ا انتقاد،برگشت به منظور تجدید نظر یا رد شدن کارتان چگونه کنار می آی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3"/>
          <p:cNvSpPr txBox="1"/>
          <p:nvPr/>
        </p:nvSpPr>
        <p:spPr>
          <a:xfrm>
            <a:off x="2666880" y="4724280"/>
            <a:ext cx="385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زمان و موقعیت دریافت کار </a:t>
            </a:r>
            <a:endParaRPr b="0" lang="en-US" sz="32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3"/>
          <p:cNvSpPr txBox="1"/>
          <p:nvPr/>
        </p:nvSpPr>
        <p:spPr>
          <a:xfrm>
            <a:off x="1752480" y="6858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رزیابی های متداول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52280" y="228600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هرقدر سطح تعیین کیفیت بالاتر باشد احتمال بیشتری دارد که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ارزشیابی شما توسط ارزشیابان خارجی انجام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راساس کار خودتان ارزیابی می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838080" y="1600200"/>
            <a:ext cx="6934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در جریان ارزیابی مجبور به شرکت در جلسه ارائه باش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تان به منظور انجام برخی اصلاحات جزیی برگردانده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3"/>
          <p:cNvSpPr txBox="1"/>
          <p:nvPr/>
        </p:nvSpPr>
        <p:spPr>
          <a:xfrm>
            <a:off x="838080" y="533520"/>
            <a:ext cx="613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کارهایی که قبل از ارائه تحقیق باید انجام داد :</a:t>
            </a:r>
            <a:endParaRPr b="0" lang="en-US" sz="3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762120" y="2590920"/>
            <a:ext cx="6095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رس و جو کنید و ببینید چه کسانی در جلسه هستن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حوه عرضه نتایج تحقیق خود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5 -0.0222 L 5.55112E-017 8.09249E-007 E">
                                      <p:cBhvr>
                                        <p:cTn id="947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14400" y="1440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طلاعاتتان به روز 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گویی به سوالات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والاتی که مایلید از شما بپرسند ،تهی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ز جلسه ارائه لذت بب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8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20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14400" y="182880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دانید که شما نیز خود مقیاسی برای کنترل دا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آماده دفاع از کار و پیشرفت آن باشید و در عین حال محدودیت ها ونواقص آن را نیز بشناس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380880" y="838080"/>
            <a:ext cx="85154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ا انتقاد ، برگشت به منظور تجدید نظر یا رد شدن کارتان چگونه کنار بیایید ؟</a:t>
            </a:r>
            <a:endParaRPr b="0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3"/>
          <p:cNvSpPr txBox="1"/>
          <p:nvPr/>
        </p:nvSpPr>
        <p:spPr>
          <a:xfrm>
            <a:off x="2971800" y="2209680"/>
            <a:ext cx="319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r>
              <a:rPr b="0" lang="hi-I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واکنش نسبت به نقد</a:t>
            </a: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295280" y="3429000"/>
            <a:ext cx="5791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روی باز بپذ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حت و مفهوم ضمنی نقد را برای تحقیق خود ارزیابی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838080" y="1600200"/>
            <a:ext cx="6705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واکنش های دیگری که کارتان بوجود آورده ، مقایس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 و استراتژیهای تحقیق تان را در صورت لزوم اصلاح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ی سنجیده به نقد ب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8670960" y="106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049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80880" y="228600"/>
            <a:ext cx="8458200" cy="9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لایل استفاده ازداده های موجود(ثانوی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ان بر و پر هزینه بودن جمع آوری داده های اولی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داده های کا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ایش به سمت استفاده ازگرایش های موج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کمل داده های اولی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457200" y="838080"/>
            <a:ext cx="838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99cc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مورد از کارهایی که بعد از اتمام کار تحقیقی می توانید انجام دهید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ffcc"/>
                  </a:gs>
                  <a:gs pos="50000">
                    <a:srgbClr val="99cc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066680" y="2666880"/>
            <a:ext cx="6934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تعطیلات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رختخواب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سونا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762120" y="1363680"/>
            <a:ext cx="7391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 دوستان صمیمی جشن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مینارهایی برای اشاعه یافته هایتان ترتیب 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تاب جالب بخوا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ژیم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یتان را تحقق بخش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9- 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7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0" dur="2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3" dur="2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6" dur="2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9" dur="2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2" dur="20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5" dur="20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228600" y="99216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5334120" y="1676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04920" y="1447920"/>
            <a:ext cx="841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ایید،اصلاح یا نقض یافت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مرکز برتحلیل و تفس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انجام یک مطالعه تحقیقی جدای ازآنچه قبلا صورت گرف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دلیل استفاده داده های بیشتر از آنچ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7832880" y="992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914400"/>
            <a:ext cx="8626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کنیک های گوناگون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رودررو یا درفاص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درخانه یا درمحل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ساختاریافته، بدون ساختار، نیمه ساختار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راساس فرم های متن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648320" y="1066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8610480" y="152568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04920" y="1752480"/>
            <a:ext cx="847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نفره یا گروه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ا اطلاع یا بدون اطلاع قب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ثبت یا ضبط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2860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733920" y="19810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52280" y="1144440"/>
            <a:ext cx="86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228600" y="1066680"/>
            <a:ext cx="86868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شاهد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بدون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:ضبط کردن وقایع به شیوه ای اصولی به همان صورتی که اتفاق افتا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533520" y="9144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: کد گذاری این وقایع در دسته های ازپیش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: تحلیل بعدی وقایع برای ارائه توصیف رابطه معلم-شاگ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28600" y="152388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پرسش 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روش یکی ازمتداول ترین تکنیک های تحقیق اجتماع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پرسش نامه کاملا ایده ال وجود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095880" y="1905120"/>
            <a:ext cx="22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8518680" y="1125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533520" y="1981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04920" y="685800"/>
            <a:ext cx="838188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نواع پرسش نامه های مید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میت یا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قوله(ن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هرست یا انتخاب چند گ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نجش(معی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جه بن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یا چار خانه ترک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ز(نا محد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0" y="1049400"/>
            <a:ext cx="885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28600" y="1125360"/>
            <a:ext cx="87026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2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کاتی راجع به تنظیم سوا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طرح سوالات م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سوالاتی که مستلزم به خاطر آوردن یااطلاعا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اکید بر سوالات ساده به جای پیچی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2280" y="152388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کار گیری تکنیک ها یی برای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،مصاحبه ها، مشاهد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سشنامه ها،مستند سازی پیشرفت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ها در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80880" y="1219320"/>
            <a:ext cx="8474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سوالاتی که جواب مشخصی را تداعی ن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م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فرضی مافوق تجربه پاسخگ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سوالاتی که حالت تدافعی ایجاد می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سوالاتی که حدی بر آنها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304920" y="838080"/>
            <a:ext cx="861048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ثبت پیشرفت ک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یادداشت برد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روزانه تحقی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عبه ها و فایل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یا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28600" y="1353960"/>
            <a:ext cx="87789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ضمیمه های کارت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گهداری اسناد تحقی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گ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نها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959680" y="1219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28600" y="1201680"/>
            <a:ext cx="87789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وسواس و دل مشغولی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 کار های اصلی که می توانند به شما کمک کن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ریزی و زمان بندی تحقیق به طور م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وزش به یک دو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دا کردن و استفاده از شبکه ای از محقق های پیش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28600" y="1353960"/>
            <a:ext cx="870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ad1f1f"/>
                </a:solidFill>
                <a:latin typeface="Arial Black"/>
              </a:rPr>
              <a:t>فصل هف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تحلیل داده ها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این فصل با مباحث زیر سازماندهی شده است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04920" y="1278000"/>
            <a:ext cx="86263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کل داده های ش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هیت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زمانده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رایا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آیند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-304920" y="6858000"/>
            <a:ext cx="847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228600" y="144792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اسن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صاحب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شاهد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پرسش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0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فس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2803680" y="3411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581280" y="2895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867280" y="2125800"/>
            <a:ext cx="24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486400" y="220968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887480"/>
            <a:ext cx="8397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شکل داد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و جریان کلی که بر شیوه شما برای تحلیل داده هاتاثیر می گذارند در این بخش بررس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ضعیت داده های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حل و امکانات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228600" y="1430280"/>
            <a:ext cx="85503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اده های منظم یا نا منظ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نمود نظم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فتر یادداشت های مرت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یش های بر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جموعه ای از پاسخ نام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رنگی که نام گذاری شد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304920" y="2209680"/>
            <a:ext cx="8413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ار های رونوشت شده یا نام گذا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ویر یا طرح واض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یگاه اطلاعاتی کامپیو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1249200"/>
            <a:ext cx="82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28600" y="1143000"/>
            <a:ext cx="8610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دستیابی و شئون اخلاق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ضوع تحقیق شما ممکن است مستلزم دستیابی به یک یا چند مورد زیر باش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نگهداری شده درکتابخانه یا موسس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درمنزل، اجتماعات بزرگتر یا دراینتر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228600" y="1295280"/>
            <a:ext cx="84898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نمود هرج و مرج یا بی نظم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متفرق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ار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بدی از مطالب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خالی یا متور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1582560"/>
            <a:ext cx="87789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 با شتاب نوشته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ی که نصف آنها به خاطر سپر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وشه های که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ناخوا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304920" y="1582560"/>
            <a:ext cx="84740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ز بی نظمی تا نظم و برگشت دوبا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پیدایش بی نظمی         نبود کنترل               پیدایش 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جستجوی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32767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2666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7150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198072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1981080" y="342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76960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H="1">
            <a:off x="62485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12760" y="1523880"/>
            <a:ext cx="893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حلیل مکان،فضا و ز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قسیم کمی /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5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فکر کردن درباره اطلاعات جمع آوری شده کلمات به چه معنا هستن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28600" y="1828800"/>
            <a:ext cx="848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600" spc="-1" strike="noStrike">
                <a:solidFill>
                  <a:srgbClr val="33cccc"/>
                </a:solidFill>
                <a:latin typeface="Arial Black"/>
              </a:rPr>
              <a:t>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9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: تکنیک هایی برای 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مز گذاری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حاشیه نویس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م گذاری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انتخ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خلاص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28600" y="1523880"/>
            <a:ext cx="871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در تحلیل مستند برای هر سندی که تحلیل میکنید سوالات زیر را از خود بپرس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ؤلفین چه کسانی هست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قعیت آنها چی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یه و مشی آنها چیست؟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457200" y="1600200"/>
            <a:ext cx="839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در کجا و چه زمانی این سند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چگونه و برای چه کسانی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فرضیه های اصلی آنها چی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ا چه حد مباحث آن قانع کنن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04920" y="1658880"/>
            <a:ext cx="8474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مصاحب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3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بار: نخستین مرحله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محوری: یافتن ارتباط بین طبقه بندی های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28600" y="1582560"/>
            <a:ext cx="8397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نظری: تحول یک الگو و یک قالب شر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ثال هایی از تحلیل شواه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رکیب مشاهده با تکنیک های دیگ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823240" y="1506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1897200"/>
            <a:ext cx="84358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پرسشنا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از ضوابط اصولی مر بوط به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ها باید کاملا از هم متمایز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قیق و جامع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ر سرتاسر نوشته یک دس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80880" y="685800"/>
            <a:ext cx="84740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برای بررسی پیش از جستجوی دستیاب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باره چه کسی یا موضوعی تحقیق می کنید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خاصی که نیازمند کسب اجازه از آنها هستید کدام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هدف شما معقولانه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توانید مشکلات بالقوه مربوط به دستیابی را بشناسی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9051840" y="1295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828800"/>
            <a:ext cx="8001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راحل پنجگانه کد گذ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شکیل چهار چوب برای سوال هایی که از قبل کد بندی شده یا ن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ختن کتابچه کد و دستورات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بندی پرسشنام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228600" y="1981080"/>
            <a:ext cx="84898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تقال اطلاعات به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رسی و پاکسازی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پرسش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داده ها میتوانند کمی یا کیفی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1582560"/>
            <a:ext cx="8702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7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سطوح مختلف تجزیه و تحلیل های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وانی متغیرها،میانگین ها،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آورد کردن اهمیت یافته ها و نتایج به دست آم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04920" y="1582560"/>
            <a:ext cx="8397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متقاطع یا روابط علت و معلولی ب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متغی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چند متغ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طالعه ارتباط بین چند مت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28600" y="1735200"/>
            <a:ext cx="8702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8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اسمی و توصی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صد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سم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28600" y="150660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فاصله ای و 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دازه گیری گرایشات مرکز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گین                    - 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ه                       - انحراف معی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304920" y="1506600"/>
            <a:ext cx="855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 هایی از 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- مربع خی(کای اسکو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مجمو عه ای از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28600" y="1506600"/>
            <a:ext cx="8626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کولومو گراو-اسمیر نو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دو دسته د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228600" y="1506600"/>
            <a:ext cx="86263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آزمون تی – استودن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الف) مقایسه میانگین یک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)   مقایسه نمونه های دو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،داده های فاصله ای و توزیع طبیع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04920" y="1658880"/>
            <a:ext cx="84740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هایی از داده های ک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533520" y="1220760"/>
            <a:ext cx="77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4876920" y="2971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8600" y="1066680"/>
            <a:ext cx="832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چند راهبردمفید برای مواردی که موفق نمی شوید به افراد یا موسسات دست یاب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افراد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موسسات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فرد دیگری درهمان موسسه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80880" y="1430280"/>
            <a:ext cx="8398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: در کد گذاری یک پرسشنامه در تحلیل کامپیوتری پاس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ذکر» به عنوان «یک» و «مونث» به عنوان «دو» ک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ذاری میشو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28600" y="1371600"/>
            <a:ext cx="864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: در کد گذاری یک پرسشنامه، پاسخ های «خیل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رضایت بخش» و «نه رضایت بخش و نه 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خیلی رضایت بخش و قانع کننده» به ترت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04920" y="1506600"/>
            <a:ext cx="86263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: اندازه گیری ها بر اساس معیار کمی صورت گر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 که در آن تفاوت های بین نقاط به طور دائم اندازه (سای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به ولی نقطه اصلی اختیار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228600" y="1582560"/>
            <a:ext cx="8626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: مقیاس و اندازه گیری ها بر اساس معیار کمی صورت گرفته است که در آن تفاوت های بین نقاط به طور دائم به یک اندازه مشابه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: سن افراد-جمعیت کشور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04920" y="1735200"/>
            <a:ext cx="86263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1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عنی داری،تعمیم پذ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روایی و اعتب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عنی داری: یک تعریف آماری خاص و یک تعریف عامیانه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ابلیت تعمیم پذیری: ارتباط خاصی با تحقیق در مقیاس کوچک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1506600"/>
            <a:ext cx="9007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ایی: روش و دیدگاه و تکنیک های شما واقعا با موضوعی که تحقیق میکنید ارتباط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بار: اگر یک محقق دیگر هم تحقیق شما را انجام بدهد به یک نتیجه مشابه می رس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"/>
          <p:cNvSpPr/>
          <p:nvPr/>
        </p:nvSpPr>
        <p:spPr>
          <a:xfrm>
            <a:off x="457200" y="197316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تحقیق بدون نگارش معنی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4"/>
          <p:cNvSpPr txBox="1"/>
          <p:nvPr/>
        </p:nvSpPr>
        <p:spPr>
          <a:xfrm>
            <a:off x="1066680" y="4191120"/>
            <a:ext cx="480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ین بخش شامل قسمت های زیر است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04920" y="838080"/>
            <a:ext cx="5867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هیه پیش نویس و طراحی مجدد آ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بحث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انتقاد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چه افرادی می نویس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60948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ور ، نشانه گذاری ، 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 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راس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152280" y="175248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قتی سرشان کمتر شلوغ است، دوباره تلاش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کار های تحقیقتان راعوض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ود بردن از دستیابی به افراد یا موسسات، کاری یک مرح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یست،یک فرایند مستمر و پر زحم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274320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آیینه ای است که کل فلسفه تحقیق تا حدی در آن نمایان است . اساس این کار سازمان ، نظم و رعایت آداب است . نگارش تحقیق باید زود شروع شود و به شکل یک وظیفه مستمر در آ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838080" y="914400"/>
            <a:ext cx="57150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هیه پیش نویس و باز نویسی آ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WordArt 2"/>
          <p:cNvSpPr txBox="1"/>
          <p:nvPr/>
        </p:nvSpPr>
        <p:spPr>
          <a:xfrm>
            <a:off x="1219320" y="1447920"/>
            <a:ext cx="5734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مهارت اصلی در این قسمت کدامند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066680" y="3657600"/>
            <a:ext cx="60962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شخیص اینکه چه زمانی نیاز به باز نویسی گزارش یا پایان نامه و یا بخشی از آن دار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انستن اینکه چه زمانی به اندازه کافی باز نویسی برنامه ریزی کرده ا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43000" y="3505320"/>
            <a:ext cx="54864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می توانم شروع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لمات زیادی برای نوشتن ه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3"/>
          <p:cNvSpPr txBox="1"/>
          <p:nvPr/>
        </p:nvSpPr>
        <p:spPr>
          <a:xfrm rot="5400000">
            <a:off x="6281280" y="3776400"/>
            <a:ext cx="37339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2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4"/>
          <p:cNvSpPr txBox="1"/>
          <p:nvPr/>
        </p:nvSpPr>
        <p:spPr>
          <a:xfrm>
            <a:off x="1066680" y="2438280"/>
            <a:ext cx="5334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66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نوع طفره روی معمو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66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066680" y="10666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فره رفتن را بشناسیم و خود را از آن خلاص کنی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09480" y="137160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لفاظ کمی برای نوشتن به ذهنم می آ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قبلا هرگز رساله آموزشی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پیش از این هیچگاه گزارش کار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ردا انجامش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ر حال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09480" y="1287360"/>
            <a:ext cx="556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وج سواری را ترجیح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شلوغ است ، تمرکز ن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می توانم تایپ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پردازشگرم از کار افتاد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ن کار قبلا صورت گرفت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33520" y="1295280"/>
            <a:ext cx="5715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کته اصلی چیست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ید بروم اجاق گاز را تمییز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سخت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وشتن اصلا خوب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یم ساعت وقت 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990720" y="16002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 کاش هرگز شروع نمی کر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چه ها زودتر به خانه برمی گرد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762120" y="8380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یست توصیه برای غلبه کردن برطفره رف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14400" y="220968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آنچه خوانده ا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مصاحبه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گفتگو با استاد راهن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پیش نویس صفحه 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09480" y="1440000"/>
            <a:ext cx="55627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منابع یا 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یک پیش نویس برای یک بخش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نقل قول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نکاتی که ممکن است به آنها مراجعه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یزان معینی از نوشتن در هر روز ، ماه ، هفته ، سا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609480" y="121932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 –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ات خود را ضبط و توصیف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ه به ذهنتان می رسد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ظر بگیرید چه تعداد کلمه می خواهید در هر فصل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ویرایش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28600" y="533520"/>
            <a:ext cx="86263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”نمونه گیری تصادفی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تصادف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صو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خوش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دست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طبق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762120" y="160020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ز خودتان پذیرایی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تعلل های خودتان بیندیش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وقتی چیزی ننوشته اید به کار دیگری ن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وشته خود را به دیگری بدهید تا بخوا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685800" y="1523880"/>
            <a:ext cx="5410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مورد آن با دیگران گفت و گو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گارش را در وقت دیگری از روز یا هفته انجام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یزی به نظرتان می رسد ، ن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838080" y="2201760"/>
            <a:ext cx="5562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 به ویرایش به دلایل زیر نیازمند هست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د آوری مطال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قلیل طول یا اندازه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صلاح بخش های قدیم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3"/>
          <p:cNvSpPr txBox="1"/>
          <p:nvPr/>
        </p:nvSpPr>
        <p:spPr>
          <a:xfrm>
            <a:off x="1066680" y="838080"/>
            <a:ext cx="5257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ویرایش و اصلاح نوشته ها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685800" y="2362320"/>
            <a:ext cx="5257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عویض ساختار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سخ به توصیه های خوانندگ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ذف مکررات غیر عم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14400" y="98280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523880" y="22096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752480" y="21258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کوتاه کردن نوش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762120" y="34290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کلمات تکراری و غیر ضروری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کردن دو یا چند جم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ارجاعاتی که ربطی به بحث ندار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7"/>
          <p:cNvSpPr txBox="1"/>
          <p:nvPr/>
        </p:nvSpPr>
        <p:spPr>
          <a:xfrm>
            <a:off x="1295280" y="762120"/>
            <a:ext cx="525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دازه مناسب در نوشتن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198108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دول و نمودار به جای توصیف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داشتن کل بخش یا حتی فصل در جایی که به موضوع بحث لطمه نز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990720" y="2743200"/>
            <a:ext cx="5562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نامه ریزی شده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یدن و کاستن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3"/>
          <p:cNvSpPr txBox="1"/>
          <p:nvPr/>
        </p:nvSpPr>
        <p:spPr>
          <a:xfrm>
            <a:off x="533520" y="1143000"/>
            <a:ext cx="606744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روش اساسی در تعیین اندازه نگار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34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609480" y="914400"/>
            <a:ext cx="5486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نگارش خود را گسترش بده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جستجوی مراجع و نقل قولهای بیشتر در ارتباط با موضوعات یا مطالبی که می نویسید ، ب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 بسط دادن موضوع مورد بحث ، جملات جدید در پاراگراف ها وارد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1668600"/>
            <a:ext cx="54864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ل های جدید مرتبط بیفزای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ی درون متن اصلی بگنجا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حث درباره روش خود و چگونگی عملکرد آن را گسترش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685800" y="3429000"/>
            <a:ext cx="586728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سازمان دهی نوشت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گزارش یا رساله شما از لحاظ سازمان باید شام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عناصر زیر باش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3"/>
          <p:cNvSpPr txBox="1"/>
          <p:nvPr/>
        </p:nvSpPr>
        <p:spPr>
          <a:xfrm>
            <a:off x="1447920" y="533520"/>
            <a:ext cx="457200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قابله با وقفه ه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2209680" y="2133720"/>
            <a:ext cx="37339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42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بحث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c42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352680" y="106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04920" y="915840"/>
            <a:ext cx="84740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نمونه گیری غیر تصاد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ختی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سهمی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هدفم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بعا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685800" y="1905120"/>
            <a:ext cx="5562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در ابتدا و نتیجه گیری در انت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ول متمایز که ممکن است به زیر بخش ها یا زیر فصل ها تقسیم شو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پیشینه تحقیق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جدول ، نمودار ، نقش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ی پیش از م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2"/>
          <p:cNvSpPr txBox="1"/>
          <p:nvPr/>
        </p:nvSpPr>
        <p:spPr>
          <a:xfrm>
            <a:off x="2362320" y="1066680"/>
            <a:ext cx="2066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باحث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914400" y="243828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ین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یا چند درون ما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م و ترتی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وست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33 -0.0111 L 0 1.21387E-006 E">
                                      <p:cBhvr>
                                        <p:cTn id="414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 rot="5400000">
            <a:off x="6129000" y="446256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6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533520" y="1135080"/>
            <a:ext cx="556236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رساله چیزی بیشتر از یک ثبت منفصل کار تحقیقی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اختار رسمی رسا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چکید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914400" y="685800"/>
            <a:ext cx="56959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شکل های ممکن برای رساله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174456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حجم نوشته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رور منابع پیشین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طرح و روش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جرای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رائه و تجزیه و تحلیل اطلاعات (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57200" y="1440000"/>
            <a:ext cx="5791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ه پردازی و نقد نتایج یافته ها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و نتیجه گیری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نابع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457200" y="1981080"/>
            <a:ext cx="5791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گیزه های حاکم بر نوشته های دانشگاهی عبارتند از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افقت با نظریه ای خاص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شنهاد یا ارائه یک نظریه جد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دیق اینکه نظریه حاضر امتیازهایی دارد اما نیاز به تقویت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"/>
          <p:cNvSpPr txBox="1"/>
          <p:nvPr/>
        </p:nvSpPr>
        <p:spPr>
          <a:xfrm>
            <a:off x="1752480" y="762120"/>
            <a:ext cx="44960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نقد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457200" y="1515960"/>
            <a:ext cx="6248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رائه مجدد یک نظریه یا اظهار آن برای یک توضیح بهت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د کردن یا نپذیرفتن یک نظر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طباق دو نظریه که ممکن است متفاو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راف به نادرست بودن نظر قبلی م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304920" y="2286000"/>
            <a:ext cx="670536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اهنمایی هایی درباره دستور و نشانه گذار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جمل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پاراگراف های یک جم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جملات ربطی در ابتدای پاراگراف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685800" y="9907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تقاد به معنی مزخرف تلقی کردن نیست 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3520" y="1668600"/>
            <a:ext cx="5715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دادن مطالب به صورت فهرست های طولانی ضمیم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نشانه گذاری معیا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کار بستن درست علامت نقل قول و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3"/>
          <p:cNvSpPr txBox="1"/>
          <p:nvPr/>
        </p:nvSpPr>
        <p:spPr>
          <a:xfrm>
            <a:off x="1600200" y="533520"/>
            <a:ext cx="4572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وارد استفاده از تصویر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62120" y="1981080"/>
            <a:ext cx="541008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(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ایی که می توان بجای متن تصویر گذاش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تصاویری که حق انحصاری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28600" y="1219320"/>
            <a:ext cx="86868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انواع دیگر نمونه گ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اقع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برد های نمونه گیری متنوعی برای استفاده در دسترس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533520" y="1523880"/>
            <a:ext cx="579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380880" y="1143000"/>
            <a:ext cx="57913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متن به تک تک تصویر ها ارجاع ده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اغلب موارد بهتر است تصاویر تفکیک شو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نقش خسته کنندگی تصویر در مت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تصاویر بدون ابه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 rot="769800">
            <a:off x="3276360" y="0"/>
            <a:ext cx="145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هراس ها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838080" y="1905120"/>
            <a:ext cx="541044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لت متداول برای ترس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چیزی که برای من تازگی دارد ،اصیل هم هست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مین اواخر متوجه شدم که شخص دیگری قبلا آن را نوش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اقعا مزخرف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ر مخالف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7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0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3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3"/>
          <p:cNvSpPr txBox="1"/>
          <p:nvPr/>
        </p:nvSpPr>
        <p:spPr>
          <a:xfrm>
            <a:off x="2971800" y="1523880"/>
            <a:ext cx="2209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تمه دادن 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609480" y="2514600"/>
            <a:ext cx="6629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فصل به موضوعات زیر می پرداز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خواهید کار را تمام کن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خه ما قبل آخر و نسخه نه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3 -0.00069 L -3.33333E-006 -3.75723E-006 E">
                                      <p:cBhvr>
                                        <p:cTn id="689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04920" y="1676520"/>
            <a:ext cx="5867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زوده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ا باید چکار کنم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066680" y="36576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یست علت مناسب برای تحویل ندادن گزارش یا رساله در موعد مقر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7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0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144792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یسک سخت رایانه ا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شین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درم مریض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لیت بخت آزمایی برن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های مهمتری دار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38080" y="182088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380880" y="137160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 خواهم ازدواج کن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ن را گم کرده 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295280" y="1143000"/>
            <a:ext cx="586764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حران های غیر قابل کنترل زند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علل قابل اجتناب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نیز حالت بینابین دار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1219320" y="838080"/>
            <a:ext cx="596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عویق های اجتناب پذیر واجتناب ناپذی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2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2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828800" y="1219320"/>
            <a:ext cx="5943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عنوان ، نام خودتان و ... روی صفحه عنو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ک کردن تمام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فصول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3"/>
          <p:cNvSpPr txBox="1"/>
          <p:nvPr/>
        </p:nvSpPr>
        <p:spPr>
          <a:xfrm>
            <a:off x="2666880" y="1143000"/>
            <a:ext cx="457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کنترل نسخه ماقبل آخ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371600" y="1219320"/>
            <a:ext cx="5715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نترل غلط های امل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حاشیه ها و فاصله ها بین سطر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قید منابعی که در متن آمده اند در فهرست پای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زئیات هر منبع در فهرست منابع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ضوابط فنی نگارش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7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066680"/>
            <a:ext cx="58672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پدر و مادر عزیز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خواهر فرهیخ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همسر و فرزن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دانشجویان محق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3"/>
          <p:cNvSpPr txBox="1"/>
          <p:nvPr/>
        </p:nvSpPr>
        <p:spPr>
          <a:xfrm>
            <a:off x="2286000" y="1143000"/>
            <a:ext cx="51814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رخی تقدیم نامه های رایج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5:58:39Z</dcterms:created>
  <dc:creator>7613</dc:creator>
  <dc:description/>
  <dc:language>en-US</dc:language>
  <cp:lastModifiedBy>P.R.S</cp:lastModifiedBy>
  <dcterms:modified xsi:type="dcterms:W3CDTF">2014-12-08T05:00:37Z</dcterms:modified>
  <cp:revision>5</cp:revision>
  <dc:subject/>
  <dc:title>Slide 1</dc:title>
</cp:coreProperties>
</file>